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media/image9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BB977-89FC-4DC0-8106-7E6242B17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01C53-10F2-449C-8A29-D715941BD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0257E-33EE-4CF2-89BC-04A6768A3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E2F89-B30C-469B-AE07-7B74038EA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5E93B-2E0D-4F79-AF0D-B031CC5D6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09AC1-1DB2-463B-ACB2-D6B21471C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E3902-2BC2-4B5B-A2D4-2C23E8E71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00340-AB94-4421-87C8-6E629E669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D9DBC-2A06-4E71-86DD-C53007F2C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42F01-05BF-4F68-9EDD-1B8D68B86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B5EE9-6CAD-4EF4-90D5-9477671CB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CA146-36A7-4E3E-8DC3-DA9779FD5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481E1-EFE3-4EDE-A603-9AEBEF3B2D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Object 4"/>
          <p:cNvGraphicFramePr/>
          <p:nvPr/>
        </p:nvGraphicFramePr>
        <p:xfrm>
          <a:off x="1768320" y="2795760"/>
          <a:ext cx="5518440" cy="1236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8320" y="2795760"/>
                    <a:ext cx="5518440" cy="123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" name="Object 5"/>
          <p:cNvGraphicFramePr/>
          <p:nvPr/>
        </p:nvGraphicFramePr>
        <p:xfrm>
          <a:off x="635040" y="477720"/>
          <a:ext cx="7956360" cy="67057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4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35040" y="477720"/>
                    <a:ext cx="7956360" cy="670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Object 4"/>
          <p:cNvGraphicFramePr/>
          <p:nvPr/>
        </p:nvGraphicFramePr>
        <p:xfrm>
          <a:off x="625320" y="428760"/>
          <a:ext cx="8015400" cy="6573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5320" y="428760"/>
                    <a:ext cx="8015400" cy="657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Object 2"/>
          <p:cNvGraphicFramePr/>
          <p:nvPr/>
        </p:nvGraphicFramePr>
        <p:xfrm>
          <a:off x="625320" y="428760"/>
          <a:ext cx="8015400" cy="6581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5320" y="428760"/>
                    <a:ext cx="8015400" cy="658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Object 2"/>
          <p:cNvGraphicFramePr/>
          <p:nvPr/>
        </p:nvGraphicFramePr>
        <p:xfrm>
          <a:off x="625320" y="387360"/>
          <a:ext cx="8172720" cy="6499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5320" y="387360"/>
                    <a:ext cx="8172720" cy="649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Object 2"/>
          <p:cNvGraphicFramePr/>
          <p:nvPr/>
        </p:nvGraphicFramePr>
        <p:xfrm>
          <a:off x="635040" y="477720"/>
          <a:ext cx="7956360" cy="6705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5040" y="477720"/>
                    <a:ext cx="7956360" cy="670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1 Rectángulo"/>
          <p:cNvSpPr/>
          <p:nvPr/>
        </p:nvSpPr>
        <p:spPr>
          <a:xfrm>
            <a:off x="179280" y="189000"/>
            <a:ext cx="878544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definir lista de n "filas" y 4 "columnas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=[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leer lineas de primer arch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linea in open("notas1.txt"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agregar lista con sección, nombre y 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.append( [linea[0],   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inea[1:21],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(linea[21:23])]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leer lineas de segundo arch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linea in open("notas2.txt"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buscar nombre en lista alumnos de sec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alumno in 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f alumno[1]==linea[1:21]: brea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agregar nota a lista de alum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lumno.append(int(linea[21:23]))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1 Rectángulo"/>
          <p:cNvSpPr/>
          <p:nvPr/>
        </p:nvSpPr>
        <p:spPr>
          <a:xfrm>
            <a:off x="468360" y="404640"/>
            <a:ext cx="84247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ordenar lista por sección y nomb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.sort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calcular y guardar planilla final orden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rchivo=open(“planilla.txt","w"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alumno in 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omedio=int((alumno[2]+alumno[3])/2.0+0.5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rchivo.write(alumno[0]+      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lumno[1]+      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(alumno[2])+ 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(alumno[3])+ 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(promedio)+"\n"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rchivo.close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1 Rectángulo"/>
          <p:cNvSpPr/>
          <p:nvPr/>
        </p:nvSpPr>
        <p:spPr>
          <a:xfrm>
            <a:off x="179280" y="189000"/>
            <a:ext cx="896472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Solución 2: Con lista de 8 listas (una por secció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definir lista de 8 listas (inicialmente vací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=[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i in range(8)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.append([]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leer lineas primer arch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linea in open("notas1.txt"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obtener indice de lista de sec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=int(linea[0])-1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agregar [nombre,nota] a lista de sec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[i].append([linea[1:21],int(linea[21:23])]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1 Rectángulo"/>
          <p:cNvSpPr/>
          <p:nvPr/>
        </p:nvSpPr>
        <p:spPr>
          <a:xfrm>
            <a:off x="324000" y="189000"/>
            <a:ext cx="8496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leer lineas segundo arch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linea in open("notas2.txt"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obtener indice de lista sec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sec=int(linea[0])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buscar nombre en lista de la sección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alumno in L[isec]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f alumno[0]==linea[1:21]: brea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agregar nota a lista de alumno de sec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lumno.append(int(linea[21:23]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1 Rectángulo"/>
          <p:cNvSpPr/>
          <p:nvPr/>
        </p:nvSpPr>
        <p:spPr>
          <a:xfrm>
            <a:off x="179280" y="115920"/>
            <a:ext cx="896472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grabar planil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rchivo=open("planilla.txt","w"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recorrer indices de sec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i in range(len(L)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obtener lista de la sec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eccion=L[i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ordenar lista de la sec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eccion.sort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recorrer alumnos de la sec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alumno in secc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grabar datos del alumno en planilla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omedio=int((alumno[1]+alumno[2])/2.0+0.5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rchivo.write(str(i+1)+alumno[0]+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(alumno[1])+str(alumno[2])+  \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(promedio)+"\n")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rchivo.close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Object 4"/>
          <p:cNvGraphicFramePr/>
          <p:nvPr/>
        </p:nvGraphicFramePr>
        <p:xfrm>
          <a:off x="403200" y="469800"/>
          <a:ext cx="8427960" cy="5749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469800"/>
                    <a:ext cx="8427960" cy="574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Object 4"/>
          <p:cNvGraphicFramePr/>
          <p:nvPr/>
        </p:nvGraphicFramePr>
        <p:xfrm>
          <a:off x="379440" y="304920"/>
          <a:ext cx="8616960" cy="6211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9440" y="304920"/>
                    <a:ext cx="8616960" cy="621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Object 4"/>
          <p:cNvGraphicFramePr/>
          <p:nvPr/>
        </p:nvGraphicFramePr>
        <p:xfrm>
          <a:off x="403200" y="477720"/>
          <a:ext cx="8518680" cy="5765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477720"/>
                    <a:ext cx="8518680" cy="576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Object 4"/>
          <p:cNvGraphicFramePr/>
          <p:nvPr/>
        </p:nvGraphicFramePr>
        <p:xfrm>
          <a:off x="271440" y="247680"/>
          <a:ext cx="8609040" cy="6721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1440" y="247680"/>
                    <a:ext cx="8609040" cy="672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Object 2"/>
          <p:cNvGraphicFramePr/>
          <p:nvPr/>
        </p:nvGraphicFramePr>
        <p:xfrm>
          <a:off x="403200" y="469800"/>
          <a:ext cx="8427960" cy="6837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469800"/>
                    <a:ext cx="8427960" cy="683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Object 4"/>
          <p:cNvGraphicFramePr/>
          <p:nvPr/>
        </p:nvGraphicFramePr>
        <p:xfrm>
          <a:off x="452520" y="304920"/>
          <a:ext cx="8066160" cy="8064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2520" y="304920"/>
                    <a:ext cx="8066160" cy="806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Object 2"/>
          <p:cNvGraphicFramePr/>
          <p:nvPr/>
        </p:nvGraphicFramePr>
        <p:xfrm>
          <a:off x="452520" y="304920"/>
          <a:ext cx="8066160" cy="8072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2520" y="304920"/>
                    <a:ext cx="8066160" cy="807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Object 2"/>
          <p:cNvGraphicFramePr/>
          <p:nvPr/>
        </p:nvGraphicFramePr>
        <p:xfrm>
          <a:off x="403200" y="469800"/>
          <a:ext cx="8427960" cy="6894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469800"/>
                    <a:ext cx="8427960" cy="689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01:30Z</dcterms:created>
  <dc:creator>jalvarez</dc:creator>
  <dc:description/>
  <dc:language>en-US</dc:language>
  <cp:lastModifiedBy>jalvarez</cp:lastModifiedBy>
  <cp:lastPrinted>2006-05-19T15:19:42Z</cp:lastPrinted>
  <dcterms:modified xsi:type="dcterms:W3CDTF">2011-05-03T19:15:26Z</dcterms:modified>
  <cp:revision>110</cp:revision>
  <dc:subject/>
  <dc:title>Sin título de diapositiva</dc:title>
</cp:coreProperties>
</file>